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BFA2-B526-49B3-8296-A91C620FA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60A4-B021-41F4-93F2-F51A2D07A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D8A0-35F4-4C3F-8430-E4C913104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B841-A28C-4E0A-9E26-EB1369303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A22F-4443-468B-9008-2F3876418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09DE-687C-4413-BD45-D450685D3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A338-1189-446E-8763-BD2EF9907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C7D8-C76D-49A8-A9E7-2F78FC52B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41E9-193D-4D41-A9E4-498D3A54E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58A9-34CB-4D72-8B2E-9432D75F1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B30E-B153-40F2-BCA1-41107EE6D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F5FE-644A-49D5-AA93-7A97E5C4E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DE8F-1F53-4A60-A5B0-40E45EA1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419E-575A-4396-AE7F-58100FAF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11597-F34F-44F0-8E3F-9016AADE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5A015-7428-459A-B77E-FA0D7990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77B37-1EFC-4821-B65F-8D48C252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F2C40-BB37-4006-B145-68E5770A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9F8BD-CC20-4D2C-BB5D-3CBB2473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FA5E2-D89A-44A1-91D4-94B25961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22B3F-8016-4BAC-BCBB-E27516FB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EB5FC-82BB-4FD6-B0BD-4C1DDF549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E8D35-41CB-4F3E-B753-56179F1E2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26289-28E8-46C4-93D2-78854B531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D4C5-3935-4BFC-B77C-CE9190C3A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DE075-22CF-41B9-9F83-819E7F8E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72AF7-79C2-4D89-BDDA-90D66EBC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D5010-74E8-40DD-B787-66354AD6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EB528-5B51-4D96-BC4E-F198BCC2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2E618-A8C8-4C53-B3B6-BE00BDE0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FE038-0163-4198-BD60-BB15AB35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0F815-BDD0-4BC1-A0E0-1B28CF2C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ECB1E-A184-4656-BE0A-2AE6A10C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565F5-61DD-4784-A92A-240C0402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63E3B-8043-4A58-B249-087CD8BC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43BB-9D98-4675-A01F-8D6811A8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D47593-9EB7-44EE-837F-184DDED8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67B7F-E515-4C91-84BA-E7646B22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807DC-49F0-4E66-8F59-77E8DC08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62DD1-1A82-4FA6-A232-921AF3A5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45E9C-2171-469A-AC51-0758911C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16E4F-1E81-459B-9788-48451B39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40644-D17D-4D30-91B4-0DA97653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877E7-C5CF-4681-BFA0-502151A6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ABB9E-3E16-47EF-8F2D-4A30AE8D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98E21-2774-4C19-88DD-C48ACF5A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E0F4-2CC8-40C4-9507-DFDF8A54D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CFCAC-4E5B-4196-99B4-3A6AA288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AA0D0-5476-4954-BB63-B2761011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ED994-90FE-4152-B36C-F06864866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18804C-C854-4639-9E1A-78E646CD0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FB97F-050D-420D-BD8A-E4F06C83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63FE2D-8803-4533-914D-4FE311F8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D6D722-AA92-4BC0-ADCB-245CD944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05B5C4-5169-4F22-9A01-0F3544B8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A0EB0-F63F-4478-9191-137BCA6D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47B90-166F-470B-8970-1F5F42AC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023F-D476-4065-B16A-FD79786D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CD247-A314-4092-AA85-7482BAF0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D062C-DEF9-4114-90B8-D025339A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5881D-A253-4404-97E9-51B9F453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80B2B3-E411-4544-95A9-A80654CA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3CD49-F69D-440C-9D3A-0363E9FF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DBE3-18F2-40A9-9917-3F236724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D744-071B-4D8E-9BF6-687A6488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EB80-46D0-4F32-B8BD-6439958C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7C83-B178-4A4C-AA8F-DA496CA4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5D87-64BA-4FCF-9375-A8DC641F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03D7-B882-44D9-BBA6-31D3E5DB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4573-05F1-46F0-B916-C6F3ABEE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5837-33D7-41C5-921B-55CFEC03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9255-F447-497A-A24A-46F0DC37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91A0-B9DB-475F-908B-09CD817B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2EC7-EB7E-49C6-A147-F4366B99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1284A-3D20-4AC6-9CA2-62E0300FF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5280F-77FF-4F30-835A-1F28EC1B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74680-FF17-4609-B85C-B3B85C47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1FAD3-8C41-4512-95BF-7AEAC4B4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12B66-FD66-436C-A432-1B8B26AA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6FD5-AA8D-4EA9-8584-99511932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9BB1D-1C50-4778-AA08-0D32C6D1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7339E-014F-4F4C-9026-AC1FE8DE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52140-C95D-43D7-9E21-83AAAF0F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6C7E2-C133-4810-A0A9-9A6EBA50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E05CA-DABA-4084-96E0-3F6278A3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1A985-E27B-43F1-B077-2253BF8C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FDC06-6047-4FF7-AAF6-5A37F7564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A378C-DAB5-4FB5-857B-42686E3D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D231C-1B11-487E-924A-1B0216A9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4A8F9-2754-4FB8-A968-666AE85A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83A2-43E0-4347-8D16-6B3FB6E4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B4D1E-866F-4B09-BF3D-AC49599C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9C5BF-C033-4FD5-9BC2-8E139263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C5B65-3030-4963-B37D-2687A9C3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EC318-D480-48E8-A065-969FA3C5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A92B6-39AF-49C3-A22D-DFBE1807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B0B67-53C9-428E-AF61-137D70CC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DEF14-4A9A-447A-BB7F-62BEBA77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FE872-4A57-4FA0-A314-6107FAF0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F9FC0-8C24-413E-95DB-D753BF3CA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F90F6-0DFA-44AE-84A2-06227BAD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B543-D3BD-42C0-AF9C-50D9407B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9C797-B429-4F7F-8257-5F019F85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9E21C-D4A7-4230-B845-84022EC5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DC6B8-3A43-422C-A31B-7A253E85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1223E-C46E-4772-A52F-5F95C7F3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9557B-5BDC-4B50-9AC9-7161DBF5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68560-C66E-4CA7-8958-3F6F0E5E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5CF46-F58F-46F2-A68F-03A83C52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F25E8-F157-45C9-A0D2-987128AE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8EA4B-A64A-4F5D-A72A-1048506E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99C4A-21FC-499A-882C-A0BD5648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3CB0-13C7-4610-9270-F3385038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43769-63CE-48CF-B69D-B59DA1BFF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D7950-DD1A-4C46-9033-362AAFC8A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AAE63-71F2-4E2B-A19C-68F594B0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C3265-9A23-4C89-90BE-DEB34A5C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35E5C-E152-4A86-AE3F-90C62623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80D85-AB6A-414C-9FC7-8F079857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F3F3C-D893-4658-9C07-A25E7104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DD6DA-ABFB-4998-A171-2524E187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2C854-E817-4975-B037-E7F79E68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12D24-03B0-4B9B-9A1A-9A2BC391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8487-2591-4733-951F-C5A3D8B9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1B550-67D4-40E1-BE41-4158F57A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37C14-EF76-421F-B975-1F3EFD061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2C2B4-8DC8-4525-9558-5176837D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E8EA0-6FA2-4BB0-9C54-6FBF3890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301B2-9254-4728-96FF-30560A5F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0EF40-814D-4438-B964-1296B0AA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E6C3F-1FF4-4718-A3AC-6E2F263B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57BBC-2E63-4DA0-9BF5-CB15D8A3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841E1-40BF-4D93-AFFA-DC45BCCB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CDBD9-1C2A-4B0D-B626-09F389E6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BD1F-D6B8-4210-A01D-E30E5FAD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87EBB-2D89-49B3-832B-DCF45553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A716C-1085-43B5-B80A-2B73D889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5F297-E34D-4EA6-9E5D-85243B4A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76CCF-B1B7-4F64-989C-E72BE537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E8025-CE98-4B2A-BBB0-504316B0F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06709-61F3-499A-AED2-CAB0989B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FBF8B-9B03-483D-80E6-FD674239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74C57-D85C-4737-A34A-EE167C09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78824-124B-4227-904C-B6CBC3D5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92308-9EE9-4E9D-9222-807A06FE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EADB-E4CA-471F-9B2E-F98D0EAD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1EFFB-D58C-4D98-A11A-A82E4DB0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E16B5-7FDA-4042-9CBF-03880D22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E5372-A44D-4D30-9B66-10F97EDB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AA535-AB4C-4EE6-A5CA-A91A4103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43882-D08B-46E0-839F-DCC580B2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69E6F-558D-43D4-97FA-29EFB6AC6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1C8D2-65B4-47E3-A070-EC5D43B2D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767F0-5E8F-4C49-A9BE-812B7FFD2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08947-6391-402D-BE96-61B168FE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3EAFE-E91F-4B95-8DB2-7419EFAA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708C-25E6-46BE-B516-737BC6978CA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C95A-928F-477C-9577-D028E867BFE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24B0-C996-4009-9377-CB86222442B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D7FC-6C5E-49B7-AD96-B712C3D10FC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BA9E-90F4-428C-8FE7-68ED74C0BAC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C104-BCB7-4342-B7BD-189526E0615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F6BC-C2CC-4B70-88CF-9F2A39D012C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5EB4-5DD2-4569-AA39-E6ECD9E6C90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6DBA-BF19-4EDE-B5B0-FFCF2C10682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4B37-3764-4164-870C-7CE46BD41F0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7CE2-8771-435B-8E88-869E599A6BC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6E4A-2A7B-4D1A-B663-E382D3F4386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361960" y="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Script MT Bold"/>
              </a:rPr>
              <a:t>Chapter 18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3" name="WordArt 5"/>
          <p:cNvSpPr txBox="1"/>
          <p:nvPr/>
        </p:nvSpPr>
        <p:spPr>
          <a:xfrm>
            <a:off x="914400" y="1066680"/>
            <a:ext cx="74674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Script MT Bold"/>
              </a:rPr>
              <a:t>Leadership to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sp>
        <p:nvSpPr>
          <p:cNvPr id="514" name="WordArt 6"/>
          <p:cNvSpPr txBox="1"/>
          <p:nvPr/>
        </p:nvSpPr>
        <p:spPr>
          <a:xfrm>
            <a:off x="1295280" y="3352680"/>
            <a:ext cx="67820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Script MT Bold"/>
              </a:rPr>
              <a:t>Achieve Qualit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sp>
        <p:nvSpPr>
          <p:cNvPr id="515" name="Text Box 7"/>
          <p:cNvSpPr/>
          <p:nvPr/>
        </p:nvSpPr>
        <p:spPr>
          <a:xfrm>
            <a:off x="1447920" y="5791320"/>
            <a:ext cx="6553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cript MT Bold"/>
              </a:rPr>
              <a:t>By:  Paul Hershey, Kenneth Blanchard, and Dewey John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228600" y="76212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95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Script MT Bold"/>
              </a:rPr>
              <a:t>The organization must determine the most efficient means of measuring quality and exhibit their “WAY” daily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95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Script MT Bold"/>
              </a:rPr>
              <a:t>When you determine your organization’s daily “WAY” of performance, leaders must keep a constant eye on tracking the implementation progress through measuring and monitoring that </a:t>
            </a:r>
            <a:r>
              <a:rPr b="0" lang="en-US" sz="3100" spc="-1" strike="noStrike">
                <a:solidFill>
                  <a:srgbClr val="000000"/>
                </a:solidFill>
                <a:latin typeface="Script MT Bold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Script MT Bold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Script MT Bold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Script MT Bold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Script MT Bold"/>
              </a:rPr>
              <a:t>“WAY”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3057480" y="304920"/>
            <a:ext cx="640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Script MT Bold"/>
              </a:rPr>
              <a:t>Chapter  18:  Leadership to Achieve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WordArt 5"/>
          <p:cNvSpPr txBox="1"/>
          <p:nvPr/>
        </p:nvSpPr>
        <p:spPr>
          <a:xfrm>
            <a:off x="3886200" y="4952880"/>
            <a:ext cx="4648320" cy="16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Script MT Bold"/>
              </a:rPr>
              <a:t>Phase 6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Script MT Bold"/>
              <a:ea typeface="Script MT Bold"/>
            </a:endParaRPr>
          </a:p>
        </p:txBody>
      </p:sp>
      <p:pic>
        <p:nvPicPr>
          <p:cNvPr id="555" name="Picture 7" descr="j0283209"/>
          <p:cNvPicPr/>
          <p:nvPr/>
        </p:nvPicPr>
        <p:blipFill>
          <a:blip r:embed="rId1"/>
          <a:stretch/>
        </p:blipFill>
        <p:spPr>
          <a:xfrm>
            <a:off x="685800" y="4495680"/>
            <a:ext cx="2133720" cy="208764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9"/>
          <p:cNvSpPr/>
          <p:nvPr/>
        </p:nvSpPr>
        <p:spPr>
          <a:xfrm>
            <a:off x="3962520" y="42670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Measuring and Monitoring Ongoing Performance:  Tracking Implementatio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228240" y="3581280"/>
            <a:ext cx="84582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cript MT Bold"/>
              </a:rPr>
              <a:t>Continuous improvement effor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cript MT Bold"/>
              </a:rPr>
              <a:t>Analyze data to concur targe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cript MT Bold"/>
              </a:rPr>
              <a:t>Dynamics of the organization bring about new products, services, and need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8" name="Rectangle 4"/>
          <p:cNvSpPr/>
          <p:nvPr/>
        </p:nvSpPr>
        <p:spPr>
          <a:xfrm>
            <a:off x="3058920" y="22860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Script MT Bold"/>
              </a:rPr>
              <a:t>Chapter  18:  Leadership to Achieve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WordArt 5"/>
          <p:cNvSpPr txBox="1"/>
          <p:nvPr/>
        </p:nvSpPr>
        <p:spPr>
          <a:xfrm>
            <a:off x="228600" y="457200"/>
            <a:ext cx="3124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Script MT Bold"/>
              </a:rPr>
              <a:t>Phase 7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pic>
        <p:nvPicPr>
          <p:cNvPr id="560" name="Picture 7" descr="j0302953"/>
          <p:cNvPicPr/>
          <p:nvPr/>
        </p:nvPicPr>
        <p:blipFill>
          <a:blip r:embed="rId1"/>
          <a:stretch/>
        </p:blipFill>
        <p:spPr>
          <a:xfrm>
            <a:off x="6934320" y="1219320"/>
            <a:ext cx="1793880" cy="251460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8"/>
          <p:cNvSpPr/>
          <p:nvPr/>
        </p:nvSpPr>
        <p:spPr>
          <a:xfrm>
            <a:off x="685800" y="22860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Adjusting Performance Targets for Continuous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Script MT Bold"/>
              </a:rPr>
              <a:t>Why should so many efforts be made to achieve “quality”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51920" y="1980720"/>
            <a:ext cx="7239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cript MT Bold"/>
              </a:rPr>
              <a:t>2 Reasons for qual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lnSpc>
                <a:spcPct val="100000"/>
              </a:lnSpc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Quality is an essential contributor to organizational result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lnSpc>
                <a:spcPct val="100000"/>
              </a:lnSpc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The role of leadership is important to implementing qualit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8" name="Picture 5" descr="j0302953"/>
          <p:cNvPicPr/>
          <p:nvPr/>
        </p:nvPicPr>
        <p:blipFill>
          <a:blip r:embed="rId1"/>
          <a:stretch/>
        </p:blipFill>
        <p:spPr>
          <a:xfrm>
            <a:off x="7238880" y="2209680"/>
            <a:ext cx="1684440" cy="236232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6"/>
          <p:cNvSpPr/>
          <p:nvPr/>
        </p:nvSpPr>
        <p:spPr>
          <a:xfrm>
            <a:off x="3352680" y="22860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Chapter 18:  Leadership to Achieve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152280" y="5562720"/>
            <a:ext cx="929664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For quality to become an operationally effective p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of an organization, it must permeate the entire organiz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Rectangle 2" descr=""/>
          <p:cNvPicPr/>
          <p:nvPr/>
        </p:nvPicPr>
        <p:blipFill>
          <a:blip r:embed="rId1"/>
          <a:stretch/>
        </p:blipFill>
        <p:spPr>
          <a:xfrm>
            <a:off x="3193920" y="353880"/>
            <a:ext cx="5688000" cy="5302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304920" y="144792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Dr. W. Edwards Deming’s Continuous Improvement Cycle is completed by utilization of seven steps or phases.  He believes that quality can be achieved through PDCA:  Planning, Doing, Checking, and Acting. 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3" name="WordArt 4"/>
          <p:cNvSpPr txBox="1"/>
          <p:nvPr/>
        </p:nvSpPr>
        <p:spPr>
          <a:xfrm>
            <a:off x="6705720" y="1676520"/>
            <a:ext cx="197172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99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roadway"/>
              </a:rPr>
              <a:t>7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99cc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roadway"/>
              <a:ea typeface="Broadway"/>
            </a:endParaRPr>
          </a:p>
        </p:txBody>
      </p:sp>
    </p:spTree>
  </p:cSld>
  <p:transition spd="med">
    <p:wheel spokes="3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Script MT Bold"/>
              </a:rPr>
              <a:t>The 7 Phas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Start-up:  Creating the Vis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Awareness:  Sharing the Vision and  Soliciting Feedback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Selecting Performance Targets: Business Objectives and Critical Success Facto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Reinforcing Implementation:  Achieve Immediate Succes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iberating Employees:  Giving Employees the Ability to Implement the Syste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Measuring and Monitoring Ongoing Performance:  Tracking Implementation Progres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Adjusting Performance Targets for Continuous Improvemen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 spokes="3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276360" y="-360"/>
            <a:ext cx="563868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Script MT Bold"/>
              </a:rPr>
              <a:t>Chapter  18:  Leadership to Achieve Qualit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228240" y="350496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cript MT Bold"/>
              </a:rPr>
              <a:t>Core value – takes between 5 and 7 yea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cript MT Bold"/>
              </a:rPr>
              <a:t>Lifetime nourish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cript MT Bold"/>
              </a:rPr>
              <a:t>Quality management is not a tool or techniq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cript MT Bold"/>
              </a:rPr>
              <a:t>Must be expressed in an organization’s vision and mission state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WordArt 4"/>
          <p:cNvSpPr txBox="1"/>
          <p:nvPr/>
        </p:nvSpPr>
        <p:spPr>
          <a:xfrm>
            <a:off x="2743200" y="1523880"/>
            <a:ext cx="3219480" cy="1443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Script MT Bold"/>
              </a:rPr>
              <a:t>Phase 1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Script MT Bold"/>
              <a:ea typeface="Script MT Bold"/>
            </a:endParaRPr>
          </a:p>
        </p:txBody>
      </p:sp>
      <p:pic>
        <p:nvPicPr>
          <p:cNvPr id="529" name="Picture 5" descr="j0297707"/>
          <p:cNvPicPr/>
          <p:nvPr/>
        </p:nvPicPr>
        <p:blipFill>
          <a:blip r:embed="rId1"/>
          <a:stretch/>
        </p:blipFill>
        <p:spPr>
          <a:xfrm>
            <a:off x="228600" y="228600"/>
            <a:ext cx="1733400" cy="213372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6"/>
          <p:cNvSpPr/>
          <p:nvPr/>
        </p:nvSpPr>
        <p:spPr>
          <a:xfrm>
            <a:off x="1981080" y="2438280"/>
            <a:ext cx="495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Script MT Bold"/>
              </a:rPr>
              <a:t>Start-up:  Creating the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428640" y="151920"/>
            <a:ext cx="571500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Script MT Bold"/>
              </a:rPr>
              <a:t>Chapter  18:  Leadership to Achieve Qualit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1066680" y="20574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3" marL="1092240" indent="-192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The vision is communicated to the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principal stakeholders:  owners,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092240" indent="-19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managers, and employe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092240" indent="-19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Wheel Model:  Customer-Driven Master Pla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092240" indent="-19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Communication and feedback are critic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092240" indent="-19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. L. Bean’s 9 dimensions of a total quality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climat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092240" indent="-19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Feedback from internal custom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092240" indent="-19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Customer for lif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WordArt 4"/>
          <p:cNvSpPr txBox="1"/>
          <p:nvPr/>
        </p:nvSpPr>
        <p:spPr>
          <a:xfrm>
            <a:off x="380880" y="304920"/>
            <a:ext cx="2971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Script MT Bold"/>
              </a:rPr>
              <a:t>Phase 2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pic>
        <p:nvPicPr>
          <p:cNvPr id="534" name="Picture 5" descr="j0233018"/>
          <p:cNvPicPr/>
          <p:nvPr/>
        </p:nvPicPr>
        <p:blipFill>
          <a:blip r:embed="rId1"/>
          <a:stretch/>
        </p:blipFill>
        <p:spPr>
          <a:xfrm>
            <a:off x="6781680" y="838080"/>
            <a:ext cx="2049480" cy="208116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6"/>
          <p:cNvSpPr/>
          <p:nvPr/>
        </p:nvSpPr>
        <p:spPr>
          <a:xfrm>
            <a:off x="3657600" y="8380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Script MT Bold"/>
              </a:rPr>
              <a:t>Awareness: Sharing the Vision and Soliciting Feedback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228240" y="99072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Focus on organization’s future direc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Refining the vision and mission statements into business objectiv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Vision is the destin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Mission statement defines the composi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Business objectives are signpo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Check your reference poi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3276720" y="304920"/>
            <a:ext cx="555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Script MT Bold"/>
              </a:rPr>
              <a:t>Chapter  18:  Leadership to Achieve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WordArt 5"/>
          <p:cNvSpPr txBox="1"/>
          <p:nvPr/>
        </p:nvSpPr>
        <p:spPr>
          <a:xfrm rot="5400000">
            <a:off x="5562000" y="3429000"/>
            <a:ext cx="5029200" cy="106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Script MT Bold"/>
              </a:rPr>
              <a:t>Phase 3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Script MT Bold"/>
              <a:ea typeface="Script MT Bold"/>
            </a:endParaRPr>
          </a:p>
        </p:txBody>
      </p:sp>
      <p:pic>
        <p:nvPicPr>
          <p:cNvPr id="539" name="Picture 6" descr="j0293844"/>
          <p:cNvPicPr/>
          <p:nvPr/>
        </p:nvPicPr>
        <p:blipFill>
          <a:blip r:embed="rId1"/>
          <a:stretch/>
        </p:blipFill>
        <p:spPr>
          <a:xfrm>
            <a:off x="1447920" y="4724280"/>
            <a:ext cx="1738080" cy="182736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7"/>
          <p:cNvSpPr/>
          <p:nvPr/>
        </p:nvSpPr>
        <p:spPr>
          <a:xfrm>
            <a:off x="3962520" y="487692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Script MT Bold"/>
              </a:rPr>
              <a:t>Selecting Performance Targets:  Business Objectives and Critical Success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0880" y="34290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cript MT Bold"/>
              </a:rPr>
              <a:t>It is during this phase that leaders identify all positive results stemming from implementa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cript MT Bold"/>
              </a:rPr>
              <a:t>The people in your organization must be accepting of the chang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cript MT Bold"/>
              </a:rPr>
              <a:t>Identify other areas of the organization which could progress from the chang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Rectangle 4"/>
          <p:cNvSpPr/>
          <p:nvPr/>
        </p:nvSpPr>
        <p:spPr>
          <a:xfrm>
            <a:off x="3429000" y="304920"/>
            <a:ext cx="551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Script MT Bold"/>
              </a:rPr>
              <a:t>Chapter  18:  Leadership to Achieve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WordArt 5"/>
          <p:cNvSpPr txBox="1"/>
          <p:nvPr/>
        </p:nvSpPr>
        <p:spPr>
          <a:xfrm>
            <a:off x="3276720" y="1447920"/>
            <a:ext cx="3962160" cy="1523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Script MT Bold"/>
              </a:rPr>
              <a:t>Phase 4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Script MT Bold"/>
              <a:ea typeface="Script MT Bold"/>
            </a:endParaRPr>
          </a:p>
        </p:txBody>
      </p:sp>
      <p:pic>
        <p:nvPicPr>
          <p:cNvPr id="544" name="Picture 8" descr="j0300840"/>
          <p:cNvPicPr/>
          <p:nvPr/>
        </p:nvPicPr>
        <p:blipFill>
          <a:blip r:embed="rId1"/>
          <a:stretch/>
        </p:blipFill>
        <p:spPr>
          <a:xfrm>
            <a:off x="457200" y="380880"/>
            <a:ext cx="2133720" cy="179712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9"/>
          <p:cNvSpPr/>
          <p:nvPr/>
        </p:nvSpPr>
        <p:spPr>
          <a:xfrm>
            <a:off x="3962520" y="22860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3276720" y="2438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Reinforcing Implementation:  Achieve Immediate Suc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2285640" y="1066680"/>
            <a:ext cx="60958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31840" indent="-231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This is the phase during  which leaders empower their staff members, or give them time to make critical decisions regarding the implementation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3058920" y="30492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Script MT Bold"/>
              </a:rPr>
              <a:t>Chapter  18:  Leadership to Achieve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WordArt 5"/>
          <p:cNvSpPr txBox="1"/>
          <p:nvPr/>
        </p:nvSpPr>
        <p:spPr>
          <a:xfrm rot="5400000">
            <a:off x="-1602720" y="3050280"/>
            <a:ext cx="5029200" cy="909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Script MT Bold"/>
              </a:rPr>
              <a:t>Phase 5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Script MT Bold"/>
              <a:ea typeface="Script MT Bold"/>
            </a:endParaRPr>
          </a:p>
        </p:txBody>
      </p:sp>
      <p:pic>
        <p:nvPicPr>
          <p:cNvPr id="550" name="Picture 6" descr="j0195812"/>
          <p:cNvPicPr/>
          <p:nvPr/>
        </p:nvPicPr>
        <p:blipFill>
          <a:blip r:embed="rId1"/>
          <a:stretch/>
        </p:blipFill>
        <p:spPr>
          <a:xfrm>
            <a:off x="5867280" y="4191120"/>
            <a:ext cx="2075040" cy="213336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7"/>
          <p:cNvSpPr/>
          <p:nvPr/>
        </p:nvSpPr>
        <p:spPr>
          <a:xfrm>
            <a:off x="2057400" y="449568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Liberating Employees:  Giving Employees the Ability to Implement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EURY</cp:lastModifiedBy>
  <dcterms:modified xsi:type="dcterms:W3CDTF">2007-11-27T21:19:5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